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C826-A834-48B6-8923-507263B6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021C-01FB-47C4-90A3-C73FB7B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B5E0-D775-4F6F-95AD-F26A6DB0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FD89-F85C-4392-BEC0-87E73C12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80E8-7176-48CD-B0BE-B0CC4F17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F27F-1CBA-4187-A89C-BC006FFA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C58E-4FC3-4B90-BCB6-243B6F51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315A-215B-4721-B98A-DE884BE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C953-B4AA-4137-93F2-8B9E7EF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E761-8C2C-4308-833C-1EBA83BD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0F73-DFE3-496E-926D-3713C29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4CED-F821-4F9D-853A-5E2A5C1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C696-8EB6-4A43-B22E-E6772AD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27A-94D8-4A59-B0D8-5B1204A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F61F-EC0D-42FD-B292-5D45C63F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ECA-EC8B-4ABD-95A0-45177191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1ADD-F0C0-46A5-93F6-E32A3F0D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CCD1-E0F9-495C-B9FF-9ABD89CC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B8B4-37DD-4189-BDAE-FFB5D333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41F9-609F-442C-86DF-63DAED48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C602-D0F4-4E15-BAB7-DF1729C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6891-D7E5-45A2-B014-D6E71570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63AB-342D-4858-A863-4DA5BE3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B484-2B96-4CE1-81F0-74DE8CD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21DC-6146-48BD-B952-1754B8A414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F9B-1172-47A8-8716-891D797762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1557000"/>
            <a:ext cx="576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ccff"/>
                </a:solidFill>
                <a:latin typeface="Arial"/>
              </a:rPr>
              <a:t>Competen</a:t>
            </a:r>
            <a:r>
              <a:rPr b="0" lang="ro-RO" sz="4500" spc="-1" strike="noStrike">
                <a:solidFill>
                  <a:srgbClr val="99ccff"/>
                </a:solidFill>
                <a:latin typeface="Arial"/>
              </a:rPr>
              <a:t>țe digita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comic"/>
              </a:rPr>
              <a:t>Bacalaureat 2010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Domenii de competență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Utilizarea computerului și organizarea fișier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Editoare de tex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nformație și comun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oncepte de bază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Editoare de calcul tabe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aze de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rezentă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iniatur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719440"/>
            <a:ext cx="2592360" cy="237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ucce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32360" y="2940120"/>
            <a:ext cx="3887640" cy="238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32928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8T18:03:26Z</dcterms:modified>
  <cp:revision>12</cp:revision>
  <dc:subject/>
  <dc:title>Diapozitivul 1</dc:title>
</cp:coreProperties>
</file>